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E14-7CA6-43BE-9A96-C2378A2B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E76-CE91-4B7F-86A5-D7B98D78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143-D49C-404D-87CA-29BE06E7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5E7-DEA0-4E5B-B009-3688F43B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020F-C377-4442-A490-3CB2B1A7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B65D-2497-4FCA-9D18-13B66AD6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E1AC-D66B-4DC9-A812-42458893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35A3-CDD9-4EA9-94AE-EEF700EC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9977-C178-41F5-B966-53584628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A2D3-3DEC-4C34-97FD-56C91CA4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1B28-8A7A-451C-B5E8-C87EAB84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DCC-F420-49A8-9AB5-4F3F7D2A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5350-8B84-4CCF-A49C-211DB0F8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88B5-32DF-4C78-AAFB-F0CD574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83FD-02A9-4891-8731-62677535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2323-0633-4D73-AF97-1479805E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AFEF-B975-471C-96CF-57B57A65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FAC-8669-4EBE-8037-1C7F57D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D85-EF1B-4651-9065-D5737FC8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79E-F26D-44DB-B055-0D355D98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A48-DC32-4846-B381-985E117A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B0F-9CA7-40EA-AE81-FDC77E34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EF7-79F1-49B1-B566-2611D15A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2B0-B0C5-4E8F-AC22-BD7A28FE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CE07-0706-4A5D-88CE-C2C5B025E7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801B-FD50-4008-8484-39D7E35973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blia.pl/PS/Biblia.htm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eaea"/>
                </a:solidFill>
                <a:latin typeface="Monotype Corsiva"/>
              </a:rPr>
              <a:t>KSIĘGI     ŚWIĘTE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eligii monoteistyczny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HRZEŚCIJAŃSTW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JUDAIZ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ISLA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00720" y="1413000"/>
            <a:ext cx="865080" cy="863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9885200">
            <a:off x="6732360" y="4508280"/>
            <a:ext cx="1493640" cy="180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6308640"/>
            <a:ext cx="302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Opracował o. Leszek Szkudlarek OSCa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2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20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200"/>
                            </p:stCondLst>
                            <p:childTnLst>
                              <p:par>
                                <p:cTn id="45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KORAN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święta księga islamu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512720" cy="115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35280" y="2060640"/>
            <a:ext cx="7129440" cy="43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Koran (ar. Kuran ‘recytacja, czytanie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Eras Bold ITC"/>
              </a:rPr>
              <a:t>Koran składa się ze 114 sur – rozdział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Eras Bold ITC"/>
              </a:rPr>
              <a:t>Każda sura składa się z ajat – werset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Eras Bold ITC"/>
              </a:rPr>
              <a:t>Koran zawiera nauki objawione Mahometow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Felix Titling"/>
              </a:rPr>
              <a:t>Religie monoteistycz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158112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834840" cy="904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8920" y="1916280"/>
            <a:ext cx="4140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fornian FB"/>
              </a:rPr>
              <a:t>Istnieje wiele elementów, któ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fornian FB"/>
              </a:rPr>
              <a:t>łączą chrześcijaństwo, judaiz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fornian FB"/>
              </a:rPr>
              <a:t>i islam, ale głównym jest to, ż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fornian FB"/>
              </a:rPr>
              <a:t>są religiami monoteistyczny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. </a:t>
            </a:r>
            <a:r>
              <a:rPr b="1" lang="el-GR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μονος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– sam, j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Monoteizm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wiara w jednego B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619280" y="4437000"/>
            <a:ext cx="28144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200"/>
                            </p:stCondLst>
                            <p:childTnLst>
                              <p:par>
                                <p:cTn id="1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95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75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100"/>
                            </p:stCondLst>
                            <p:childTnLst>
                              <p:par>
                                <p:cTn id="12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5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Georgia"/>
              </a:rPr>
              <a:t>ŚWIĘTE KSIĘG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eaeaea"/>
                </a:solidFill>
                <a:latin typeface="Georgia"/>
              </a:rPr>
              <a:t>WIELKICH RELIGI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Każda religia 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swoje święte księg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w których zawarte j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objawienie boże, proroctw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i różne poucze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eorgia"/>
              </a:rPr>
              <a:t>Chrześcijaństwo – BIB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eorgia"/>
              </a:rPr>
              <a:t>Judaizm – TALM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eorgia"/>
              </a:rPr>
              <a:t>Islam – KOR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Hinduizm – WEDY (Wiedz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Buddyzm – PITAKA (Kosz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Konfucjonizm – I – cig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Szy – cig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Szu – cig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Czun – ts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Li – c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Szintoizm – Nori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Kodzik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Nihong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808360" cy="22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716360" y="2924280"/>
            <a:ext cx="36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Lucida Handwriting"/>
              </a:rPr>
              <a:t>Chrześcijaństwo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8000" y="19810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igia objawion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igia monoteistycz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dna z największych religii świ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ada swoją świętą księgę, która jest Bib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2379600" cy="2592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32000" y="4508640"/>
            <a:ext cx="7416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Liczba chrześcijan w świecie wynosi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2 024 929 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(co trzeci mieszkaniec ziemi jest chrześcijanin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BIBLIA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święta księga chrześcijaństw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52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Bodoni MT"/>
              </a:rPr>
              <a:t>Nazwa Biblia</a:t>
            </a:r>
            <a:r>
              <a:rPr b="0" lang="pl-PL" sz="32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Bodoni MT"/>
              </a:rPr>
              <a:t>pochodzi od greckiego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Bodoni MT"/>
              </a:rPr>
              <a:t>słow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Bodoni MT"/>
                <a:ea typeface="Tahoma"/>
              </a:rPr>
              <a:t>βίβλος</a:t>
            </a:r>
            <a:r>
              <a:rPr b="0" lang="pl-PL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Bodoni MT"/>
              </a:rPr>
              <a:t>(biblos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Bodoni MT"/>
              </a:rPr>
              <a:t>oznaczającego papirus bądź czcigodną księgę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doni MT"/>
              </a:rPr>
              <a:t>Nowy Testament określa księgi Starego Testamentu jak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γραφαί</a:t>
            </a:r>
            <a:r>
              <a:rPr b="1" lang="pl-PL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Bodoni MT"/>
                <a:ea typeface="Arial Unicode MS"/>
              </a:rPr>
              <a:t>(grafai) - pis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γραφη</a:t>
            </a:r>
            <a:r>
              <a:rPr b="1" lang="el-GR" sz="2800" spc="-1" strike="noStrike">
                <a:solidFill>
                  <a:srgbClr val="ffffff"/>
                </a:solidFill>
                <a:latin typeface="Bodoni MT"/>
                <a:ea typeface="Arial Unicode MS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Bodoni MT"/>
                <a:ea typeface="Arial Unicode MS"/>
              </a:rPr>
              <a:t>(grafe) - p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184464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1512720" cy="1514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76720" y="4292640"/>
            <a:ext cx="115092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859280" y="4941720"/>
            <a:ext cx="129708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4581360"/>
            <a:ext cx="230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Jokerman"/>
              </a:rPr>
              <a:t>Dziś mod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Joker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Jokerman"/>
              </a:rPr>
              <a:t>grfaffi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Ravie"/>
              </a:rPr>
              <a:t>Biblia –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Ravie"/>
              </a:rPr>
              <a:t>biblioteka ksią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" descr="PISMO ŚWIĘTE - Wydanie IV 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284640"/>
            <a:ext cx="2305080" cy="1382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132000" y="2133720"/>
            <a:ext cx="2087640" cy="574560"/>
          </a:xfrm>
          <a:prstGeom prst="rightArrow">
            <a:avLst>
              <a:gd name="adj1" fmla="val 50000"/>
              <a:gd name="adj2" fmla="val 9083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tary testa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4869000"/>
            <a:ext cx="2087640" cy="574560"/>
          </a:xfrm>
          <a:prstGeom prst="rightArrow">
            <a:avLst>
              <a:gd name="adj1" fmla="val 50000"/>
              <a:gd name="adj2" fmla="val 9083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owy Testa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349360"/>
            <a:ext cx="360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2276640"/>
            <a:ext cx="431640" cy="3024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3645000"/>
            <a:ext cx="1081080" cy="504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73 księ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292720" y="4581360"/>
            <a:ext cx="1655640" cy="11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92720" y="2060640"/>
            <a:ext cx="1584360" cy="106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51640" y="328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6 ksią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5877000"/>
            <a:ext cx="10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sią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80360" y="1844640"/>
            <a:ext cx="176364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historia i praw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dramat, poezja, przysłow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proroctw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deuterokanonicz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biografia, histo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lis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proroctw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220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256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3213000"/>
            <a:ext cx="360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941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48360" y="5300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5589720"/>
            <a:ext cx="43200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20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Lucida Handwriting"/>
              </a:rPr>
              <a:t>judaizm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980720"/>
            <a:ext cx="46800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st religią monoteistyczn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eruje się w codzienności szacunkiem dla innych i miłości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świętym dniem Żydów jest Szab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czekują nadejścia Mesjas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235160" cy="143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2387880" cy="2664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58920" y="49417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508464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Liczba Żydów  w świecie wynosi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14 552 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ALMUD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święta księga judaizmu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almu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księg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ego Testament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1176480" cy="1368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35280" y="1989000"/>
            <a:ext cx="705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71640" y="3729960"/>
            <a:ext cx="3944880" cy="1498680"/>
            <a:chOff x="971640" y="3729960"/>
            <a:chExt cx="3944880" cy="1498680"/>
          </a:xfrm>
        </p:grpSpPr>
        <p:cxnSp>
          <p:nvCxnSpPr>
            <p:cNvPr id="167" name="_s51227"/>
            <p:cNvCxnSpPr>
              <a:stCxn id="168" idx="0"/>
              <a:endCxn id="169" idx="2"/>
            </p:cNvCxnSpPr>
            <p:nvPr/>
          </p:nvCxnSpPr>
          <p:spPr>
            <a:xfrm flipV="1" rot="16200000">
              <a:off x="3520080" y="3791520"/>
              <a:ext cx="229320" cy="138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0" name="_s51226"/>
            <p:cNvCxnSpPr>
              <a:stCxn id="171" idx="0"/>
              <a:endCxn id="169" idx="2"/>
            </p:cNvCxnSpPr>
            <p:nvPr/>
          </p:nvCxnSpPr>
          <p:spPr>
            <a:xfrm flipV="1">
              <a:off x="2944440" y="436752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51225"/>
            <p:cNvCxnSpPr>
              <a:stCxn id="173" idx="0"/>
              <a:endCxn id="169" idx="2"/>
            </p:cNvCxnSpPr>
            <p:nvPr/>
          </p:nvCxnSpPr>
          <p:spPr>
            <a:xfrm flipH="1" flipV="1" rot="5400000">
              <a:off x="2139480" y="3792240"/>
              <a:ext cx="229320" cy="138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9" name="_s51221"/>
            <p:cNvSpPr/>
            <p:nvPr/>
          </p:nvSpPr>
          <p:spPr>
            <a:xfrm>
              <a:off x="1857960" y="3729960"/>
              <a:ext cx="2171880" cy="6382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Tahoma"/>
                </a:rPr>
                <a:t>Stary Testament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Tahoma"/>
                </a:rPr>
                <a:t>Żydzi dzielą na 3 części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51222"/>
            <p:cNvSpPr/>
            <p:nvPr/>
          </p:nvSpPr>
          <p:spPr>
            <a:xfrm>
              <a:off x="971640" y="4596840"/>
              <a:ext cx="1183320" cy="631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ahoma"/>
                </a:rPr>
                <a:t>TO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ahoma"/>
                </a:rPr>
                <a:t>Praw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51223"/>
            <p:cNvSpPr/>
            <p:nvPr/>
          </p:nvSpPr>
          <p:spPr>
            <a:xfrm>
              <a:off x="2352240" y="4596840"/>
              <a:ext cx="1183320" cy="631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ahoma"/>
                </a:rPr>
                <a:t>NEBII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ahoma"/>
                </a:rPr>
                <a:t>Proroc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1224"/>
            <p:cNvSpPr/>
            <p:nvPr/>
          </p:nvSpPr>
          <p:spPr>
            <a:xfrm>
              <a:off x="3733200" y="4596840"/>
              <a:ext cx="1183320" cy="631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ahoma"/>
                </a:rPr>
                <a:t>KETUBI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ahoma"/>
                </a:rPr>
                <a:t>Pis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651640" y="4076640"/>
            <a:ext cx="3241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ORA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najbardziej czcigodna część Talmudu, tzw. Pięcioksią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ego autorstwo przypisuje się Mojżeszow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Lucida Handwriting"/>
              </a:rPr>
              <a:t>islam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404964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ligia monoteistycz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założycielem islamu jest Mahomet ur. Ok.. 570 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ierują się w życiu dekalog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333360"/>
            <a:ext cx="1440000" cy="1316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3600360" cy="3040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59480" y="330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544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73408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Liczba muzułmanów  w świecie wynosi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1 213 370 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0:54:12Z</dcterms:created>
  <dc:creator>Administrator</dc:creator>
  <dc:description/>
  <dc:language>en-US</dc:language>
  <cp:lastModifiedBy>Administrator</cp:lastModifiedBy>
  <dcterms:modified xsi:type="dcterms:W3CDTF">2003-05-16T10:03:05Z</dcterms:modified>
  <cp:revision>12</cp:revision>
  <dc:subject/>
  <dc:title>KSIĘGI ŚWIĘTE</dc:title>
</cp:coreProperties>
</file>